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3079-356A-4A7B-AFE5-E3B61F7C51EE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7F2D-A38E-45D1-8F63-7FB69FDC101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2AF-2C39-429D-BE73-9AAB6E10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391-C880-4EBD-BE66-F3E7D1C5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403-523D-49AF-BB8D-9FC78CDA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3C1-F887-462B-B357-24C7E478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B08-2618-497A-8045-CC450EC0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5E1-A484-4A43-A167-CA2C3903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9A8-6A3B-41F1-B00C-7222CD3D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6B1-0FFB-4F8A-A825-4224CFCD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137-6C4F-4C95-B338-F6A227D0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EC1-8502-4C0D-B254-BF5DC73B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292-CF92-4D52-A2EB-0E168257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6EB-0EB3-4B15-9C83-E3F2A7C6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4924-0D23-4363-B01B-FE4696F8A8AC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2941560" cy="25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250920" y="3933720"/>
          <a:ext cx="4176720" cy="2063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217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6000" spc="-1" strike="noStrike">
                          <a:solidFill>
                            <a:srgbClr val="ffffff"/>
                          </a:solidFill>
                          <a:latin typeface="Berlin Sans FB Demi"/>
                        </a:rPr>
                        <a:t>O cariótipo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6000" spc="-1" strike="noStrike">
                          <a:solidFill>
                            <a:srgbClr val="ffffff"/>
                          </a:solidFill>
                          <a:latin typeface="Berlin Sans FB Demi"/>
                        </a:rPr>
                        <a:t>human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865920" y="6375240"/>
          <a:ext cx="2243160" cy="366840"/>
        </p:xfrm>
        <a:graphic>
          <a:graphicData uri="http://schemas.openxmlformats.org/drawingml/2006/table">
            <a:tbl>
              <a:tblPr/>
              <a:tblGrid>
                <a:gridCol w="2243160"/>
              </a:tblGrid>
              <a:tr h="402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Berlin Sans FB Demi"/>
                        </a:rPr>
                        <a:t>Carmen Madurei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2600" y="0"/>
            <a:ext cx="91407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90600" y="333360"/>
          <a:ext cx="6562800" cy="1066680"/>
        </p:xfrm>
        <a:graphic>
          <a:graphicData uri="http://schemas.openxmlformats.org/drawingml/2006/table">
            <a:tbl>
              <a:tblPr/>
              <a:tblGrid>
                <a:gridCol w="6562800"/>
              </a:tblGrid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32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4 - Extensão e Coloração das lâmin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481040" y="1574640"/>
            <a:ext cx="287676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4981680" y="1574640"/>
            <a:ext cx="287640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4"/>
          <a:stretch/>
        </p:blipFill>
        <p:spPr>
          <a:xfrm>
            <a:off x="4981680" y="3843360"/>
            <a:ext cx="287640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8" name="Seta para a direita 9"/>
          <p:cNvSpPr/>
          <p:nvPr/>
        </p:nvSpPr>
        <p:spPr>
          <a:xfrm>
            <a:off x="4481640" y="2360520"/>
            <a:ext cx="428400" cy="3571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eta em curva 10"/>
          <p:cNvSpPr/>
          <p:nvPr/>
        </p:nvSpPr>
        <p:spPr>
          <a:xfrm rot="8400000">
            <a:off x="7835040" y="3582720"/>
            <a:ext cx="622440" cy="663480"/>
          </a:xfrm>
          <a:custGeom>
            <a:avLst/>
            <a:gdLst/>
            <a:ahLst/>
            <a:rect l="l" t="t" r="r" b="b"/>
            <a:pathLst>
              <a:path w="622300" h="663575">
                <a:moveTo>
                  <a:pt x="0" y="663575"/>
                </a:moveTo>
                <a:lnTo>
                  <a:pt x="0" y="350044"/>
                </a:lnTo>
                <a:lnTo>
                  <a:pt x="0" y="350044"/>
                </a:lnTo>
                <a:arcTo wR="272256" hR="272256" stAng="10800000" swAng="5400000"/>
                <a:lnTo>
                  <a:pt x="466725" y="77788"/>
                </a:lnTo>
                <a:lnTo>
                  <a:pt x="466725" y="0"/>
                </a:lnTo>
                <a:lnTo>
                  <a:pt x="622300" y="155575"/>
                </a:lnTo>
                <a:lnTo>
                  <a:pt x="466725" y="311150"/>
                </a:lnTo>
                <a:lnTo>
                  <a:pt x="466725" y="233363"/>
                </a:lnTo>
                <a:lnTo>
                  <a:pt x="272256" y="233363"/>
                </a:lnTo>
                <a:lnTo>
                  <a:pt x="272256" y="233363"/>
                </a:lnTo>
                <a:arcTo wR="116681" hR="116681" stAng="-5400000" swAng="-5400000"/>
                <a:lnTo>
                  <a:pt x="155575" y="6635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5"/>
          <a:stretch/>
        </p:blipFill>
        <p:spPr>
          <a:xfrm>
            <a:off x="1481040" y="3860640"/>
            <a:ext cx="287820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1" name="Seta para a direita 12"/>
          <p:cNvSpPr/>
          <p:nvPr/>
        </p:nvSpPr>
        <p:spPr>
          <a:xfrm rot="10800000">
            <a:off x="4409640" y="464652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Conexão recta 3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8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41320" y="333360"/>
          <a:ext cx="6724800" cy="1432080"/>
        </p:xfrm>
        <a:graphic>
          <a:graphicData uri="http://schemas.openxmlformats.org/drawingml/2006/table">
            <a:tbl>
              <a:tblPr/>
              <a:tblGrid>
                <a:gridCol w="6724800"/>
              </a:tblGrid>
              <a:tr h="143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4400" spc="-1" strike="noStrike">
                          <a:solidFill>
                            <a:srgbClr val="7f7f7f"/>
                          </a:solidFill>
                          <a:latin typeface="Berlin Sans FB Demi"/>
                        </a:rPr>
                        <a:t>Como se faz um cariótipo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050920" y="1484280"/>
          <a:ext cx="6337440" cy="51912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404040"/>
                          </a:solidFill>
                          <a:latin typeface="Berlin Sans FB"/>
                        </a:rPr>
                        <a:t>Cultura </a:t>
                      </a:r>
                      <a:r>
                        <a:rPr b="0" i="1" lang="pt-PT" sz="2800" spc="-1" strike="noStrike">
                          <a:solidFill>
                            <a:srgbClr val="404040"/>
                          </a:solidFill>
                          <a:latin typeface="Berlin Sans FB"/>
                        </a:rPr>
                        <a:t>in vitro</a:t>
                      </a:r>
                      <a:r>
                        <a:rPr b="0" lang="pt-PT" sz="2800" spc="-1" strike="noStrike">
                          <a:solidFill>
                            <a:srgbClr val="404040"/>
                          </a:solidFill>
                          <a:latin typeface="Berlin Sans FB"/>
                        </a:rPr>
                        <a:t> de células hum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17520" y="2205000"/>
          <a:ext cx="7829640" cy="3840120"/>
        </p:xfrm>
        <a:graphic>
          <a:graphicData uri="http://schemas.openxmlformats.org/drawingml/2006/table">
            <a:tbl>
              <a:tblPr/>
              <a:tblGrid>
                <a:gridCol w="7829640"/>
              </a:tblGrid>
              <a:tr h="3841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0000"/>
                          </a:solidFill>
                          <a:latin typeface="Berlin Sans FB"/>
                        </a:rPr>
                        <a:t>A - Tecidos capazes de se dividir espontaneamente sem qualquer estímu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 Vilosidades corión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 Medula óss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Tecido tumo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0000"/>
                          </a:solidFill>
                          <a:latin typeface="Berlin Sans FB"/>
                        </a:rPr>
                        <a:t>B - Células cuja divisão é induz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 Linfócitos de sangue perifé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 Biopsias de tec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 Líquido amnió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" descr=""/>
          <p:cNvPicPr/>
          <p:nvPr/>
        </p:nvPicPr>
        <p:blipFill>
          <a:blip r:embed="rId2"/>
          <a:stretch/>
        </p:blipFill>
        <p:spPr>
          <a:xfrm>
            <a:off x="5859360" y="3341520"/>
            <a:ext cx="3033720" cy="2391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1"/>
          <p:cNvSpPr/>
          <p:nvPr/>
        </p:nvSpPr>
        <p:spPr>
          <a:xfrm>
            <a:off x="1065240" y="981000"/>
            <a:ext cx="807876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595959"/>
                </a:solidFill>
                <a:latin typeface="Berlin Sans FB"/>
              </a:rPr>
              <a:t>Indicação para o diagnóstico citogenético pós-n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Malformações congénitas susceptíveis de estarem associadas a cromossomopati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Situações de infertilidade em que é utilizado o cariótipo do casal para escolher a melhor técnica de fertilização a utilizar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Quando há um membro da família muito próximo (progenitor ou filhos) a quem foi detectada uma patologia cromossómi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Abortos consecutiv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Atraso mental idiopático (alguns indivíduos nestas situações têm cariótipo normal, sendo necessário aplicar a técnica de Fish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ângulo 1"/>
          <p:cNvSpPr/>
          <p:nvPr/>
        </p:nvSpPr>
        <p:spPr>
          <a:xfrm>
            <a:off x="1258920" y="1720800"/>
            <a:ext cx="788508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Amenorreia, muitas vezes associada ao Síndrome  de Turner e às situações em que o sexo genético é diferente do sexo fenotípico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Sexo ambígu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Doenças hematológic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Exposições a carcinogénicos (radiação, etc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Conexão recta 3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4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ângulo 4"/>
          <p:cNvSpPr/>
          <p:nvPr/>
        </p:nvSpPr>
        <p:spPr>
          <a:xfrm>
            <a:off x="1065240" y="692280"/>
            <a:ext cx="78994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Berlin Sans FB"/>
              </a:rPr>
              <a:t>Indicação para o diagnóstico citogenético pré-na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O diagnóstico citogenético pré-natal faz-se essencialmente a partir de 2 técnic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amniocentese: permite obter material de maior qualidade para análise citogené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biopsia das vilosidades coriónicas: 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pode ser efectuada mais precocem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aixaDeTexto 8"/>
          <p:cNvSpPr/>
          <p:nvPr/>
        </p:nvSpPr>
        <p:spPr>
          <a:xfrm>
            <a:off x="1187280" y="476280"/>
            <a:ext cx="783432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Berlin Sans FB"/>
              </a:rPr>
              <a:t>Indicações para realização de tes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. grávidas com mais de 35 a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ambos os progenitores têm alterações cromossóm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a grávida já tem outro filho com patologia cromossó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alterações morfológicas vistas na ecografia [principla indicação utilizada em mulheres jovens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rastreio bioquímico positiv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Método </a:t>
            </a:r>
            <a:r>
              <a:rPr b="0" lang="pt-PT" sz="1800" spc="-1" strike="noStrike">
                <a:solidFill>
                  <a:srgbClr val="ff0000"/>
                </a:solidFill>
                <a:latin typeface="Berlin Sans FB"/>
              </a:rPr>
              <a:t>não invasivo 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pois consiste num doseamento hormonal feito à grávida, a partir de uma simples amostra de sangue. Permite calcular o risco de o feto estar afectado com trissomia 2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ângulo 1"/>
          <p:cNvSpPr/>
          <p:nvPr/>
        </p:nvSpPr>
        <p:spPr>
          <a:xfrm>
            <a:off x="1116000" y="1628640"/>
            <a:ext cx="8028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rastreio ecográfico para medir a translucência da nuca (T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Se TN estiver elevado é uma indicação para o diagnóstico pré-natal - 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sinal de uma possível trissomia 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gravidez anterior com defeito do tubo neural, apesar de nem sempre estes defeitos estarem associados a cromossomopati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anomalias cardíacas - sempre muito associadas a cromossomopat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Conexão recta 10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ixaDeTexto 11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ângulo 3"/>
          <p:cNvSpPr/>
          <p:nvPr/>
        </p:nvSpPr>
        <p:spPr>
          <a:xfrm>
            <a:off x="1238400" y="271440"/>
            <a:ext cx="66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7f7f7f"/>
                </a:solidFill>
                <a:latin typeface="Berlin Sans FB"/>
              </a:rPr>
              <a:t>Cultura de linfócit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12920" y="1387440"/>
          <a:ext cx="2827440" cy="432000"/>
        </p:xfrm>
        <a:graphic>
          <a:graphicData uri="http://schemas.openxmlformats.org/drawingml/2006/table">
            <a:tbl>
              <a:tblPr/>
              <a:tblGrid>
                <a:gridCol w="282744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7f7f7f"/>
                          </a:solidFill>
                          <a:latin typeface="Berlin Sans FB"/>
                        </a:rPr>
                        <a:t>1 - Colheita da amos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1603440" y="1824120"/>
            <a:ext cx="210348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859280" y="1387440"/>
          <a:ext cx="2631960" cy="457200"/>
        </p:xfrm>
        <a:graphic>
          <a:graphicData uri="http://schemas.openxmlformats.org/drawingml/2006/table">
            <a:tbl>
              <a:tblPr/>
              <a:tblGrid>
                <a:gridCol w="263196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7f7f7f"/>
                          </a:solidFill>
                          <a:latin typeface="Berlin Sans FB"/>
                        </a:rPr>
                        <a:t>2 - </a:t>
                      </a:r>
                      <a:r>
                        <a:rPr b="0" lang="pt-PT" sz="2000" spc="-1" strike="noStrike">
                          <a:solidFill>
                            <a:srgbClr val="7f7f7f"/>
                          </a:solidFill>
                          <a:latin typeface="Berlin Sans FB"/>
                        </a:rPr>
                        <a:t>Cultura</a:t>
                      </a:r>
                      <a:r>
                        <a:rPr b="0" lang="pt-PT" sz="2400" spc="-1" strike="noStrike">
                          <a:solidFill>
                            <a:srgbClr val="7f7f7f"/>
                          </a:solidFill>
                          <a:latin typeface="Berlin Sans FB"/>
                        </a:rPr>
                        <a:t> ce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4960800" y="1835280"/>
            <a:ext cx="2089440" cy="157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4714920" y="4014720"/>
            <a:ext cx="2421000" cy="1501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5"/>
          <a:stretch/>
        </p:blipFill>
        <p:spPr>
          <a:xfrm>
            <a:off x="1224000" y="4014720"/>
            <a:ext cx="2843280" cy="150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148520" y="1976400"/>
          <a:ext cx="1671480" cy="1554120"/>
        </p:xfrm>
        <a:graphic>
          <a:graphicData uri="http://schemas.openxmlformats.org/drawingml/2006/table">
            <a:tbl>
              <a:tblPr/>
              <a:tblGrid>
                <a:gridCol w="1671480"/>
              </a:tblGrid>
              <a:tr h="1554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Meio complet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RPMI 1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Gentamic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Soro bovino fe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P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050240" y="4334040"/>
          <a:ext cx="2179440" cy="1066680"/>
        </p:xfrm>
        <a:graphic>
          <a:graphicData uri="http://schemas.openxmlformats.org/drawingml/2006/table">
            <a:tbl>
              <a:tblPr/>
              <a:tblGrid>
                <a:gridCol w="2179440"/>
              </a:tblGrid>
              <a:tr h="106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9 ml de meio comple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1 ml de san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403280" y="5657760"/>
          <a:ext cx="2630520" cy="822240"/>
        </p:xfrm>
        <a:graphic>
          <a:graphicData uri="http://schemas.openxmlformats.org/drawingml/2006/table">
            <a:tbl>
              <a:tblPr/>
              <a:tblGrid>
                <a:gridCol w="2630520"/>
              </a:tblGrid>
              <a:tr h="822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Incubar as culturas 72h e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estufa a 37º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Seta para a direita 9"/>
          <p:cNvSpPr/>
          <p:nvPr/>
        </p:nvSpPr>
        <p:spPr>
          <a:xfrm>
            <a:off x="4019400" y="2409840"/>
            <a:ext cx="671760" cy="3603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eta para a direita 17"/>
          <p:cNvSpPr/>
          <p:nvPr/>
        </p:nvSpPr>
        <p:spPr>
          <a:xfrm rot="5400000">
            <a:off x="5581440" y="3510000"/>
            <a:ext cx="493560" cy="3538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eta para a direita 18"/>
          <p:cNvSpPr/>
          <p:nvPr/>
        </p:nvSpPr>
        <p:spPr>
          <a:xfrm rot="10800000">
            <a:off x="4211640" y="4586040"/>
            <a:ext cx="385920" cy="3603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87280" y="260280"/>
          <a:ext cx="5400720" cy="10670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067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3200" spc="-1" strike="noStrike">
                          <a:solidFill>
                            <a:srgbClr val="7f7f7f"/>
                          </a:solidFill>
                          <a:latin typeface="Berlin Sans FB"/>
                        </a:rPr>
                        <a:t>3 - Preparação do Sedime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89040" y="947880"/>
          <a:ext cx="2170080" cy="334800"/>
        </p:xfrm>
        <a:graphic>
          <a:graphicData uri="http://schemas.openxmlformats.org/drawingml/2006/table">
            <a:tbl>
              <a:tblPr/>
              <a:tblGrid>
                <a:gridCol w="2170080"/>
              </a:tblGrid>
              <a:tr h="334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Adição de colquic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879560" y="1698480"/>
          <a:ext cx="1451160" cy="33516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578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Centrifug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1600200" y="2141640"/>
            <a:ext cx="2209680" cy="1665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859280" y="1254240"/>
            <a:ext cx="2006640" cy="2141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4"/>
          <a:stretch/>
        </p:blipFill>
        <p:spPr>
          <a:xfrm>
            <a:off x="4829040" y="3809880"/>
            <a:ext cx="2190960" cy="257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093080" y="2060640"/>
          <a:ext cx="1522440" cy="579240"/>
        </p:xfrm>
        <a:graphic>
          <a:graphicData uri="http://schemas.openxmlformats.org/drawingml/2006/table">
            <a:tbl>
              <a:tblPr/>
              <a:tblGrid>
                <a:gridCol w="1522440"/>
              </a:tblGrid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Rejeição 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Sobrenad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308720" y="4371840"/>
          <a:ext cx="1738440" cy="723960"/>
        </p:xfrm>
        <a:graphic>
          <a:graphicData uri="http://schemas.openxmlformats.org/drawingml/2006/table">
            <a:tbl>
              <a:tblPr/>
              <a:tblGrid>
                <a:gridCol w="1738440"/>
              </a:tblGrid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Adição de sol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hipot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ângulo 8"/>
          <p:cNvSpPr/>
          <p:nvPr/>
        </p:nvSpPr>
        <p:spPr>
          <a:xfrm>
            <a:off x="1763640" y="4500720"/>
            <a:ext cx="2232000" cy="914400"/>
          </a:xfrm>
          <a:prstGeom prst="rect">
            <a:avLst/>
          </a:prstGeom>
          <a:solidFill>
            <a:srgbClr val="a6a6a6"/>
          </a:solidFill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00"/>
                </a:solidFill>
                <a:latin typeface="Calibri"/>
              </a:rPr>
              <a:t>Fixação</a:t>
            </a: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PT" sz="3200" spc="-1" strike="noStrike">
                <a:solidFill>
                  <a:srgbClr val="ff0000"/>
                </a:solidFill>
                <a:latin typeface="Calibri"/>
              </a:rPr>
              <a:t>das</a:t>
            </a: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PT" sz="3200" spc="-1" strike="noStrike">
                <a:solidFill>
                  <a:srgbClr val="ff0000"/>
                </a:solidFill>
                <a:latin typeface="Calibri"/>
              </a:rPr>
              <a:t>Metaf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eta para a direita 13"/>
          <p:cNvSpPr/>
          <p:nvPr/>
        </p:nvSpPr>
        <p:spPr>
          <a:xfrm>
            <a:off x="4019400" y="2409840"/>
            <a:ext cx="671760" cy="3603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eta para a direita 14"/>
          <p:cNvSpPr/>
          <p:nvPr/>
        </p:nvSpPr>
        <p:spPr>
          <a:xfrm rot="5400000">
            <a:off x="5694840" y="3440880"/>
            <a:ext cx="33660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eta para a direita 15"/>
          <p:cNvSpPr/>
          <p:nvPr/>
        </p:nvSpPr>
        <p:spPr>
          <a:xfrm rot="10800000">
            <a:off x="4087800" y="4735080"/>
            <a:ext cx="673200" cy="360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ta para a direita 16"/>
          <p:cNvSpPr/>
          <p:nvPr/>
        </p:nvSpPr>
        <p:spPr>
          <a:xfrm rot="5400000">
            <a:off x="2298960" y="1342080"/>
            <a:ext cx="457200" cy="353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2:39:51Z</dcterms:created>
  <dc:creator>User</dc:creator>
  <dc:description/>
  <dc:language>en-US</dc:language>
  <cp:lastModifiedBy>Cândido Pereira</cp:lastModifiedBy>
  <dcterms:modified xsi:type="dcterms:W3CDTF">2011-09-08T09:22:06Z</dcterms:modified>
  <cp:revision>16</cp:revision>
  <dc:subject/>
  <dc:title>Apresentação do PowerPoint</dc:title>
</cp:coreProperties>
</file>