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CC3-9A7D-45C8-B8EC-02BD54B6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F10-0F71-44C8-A1A7-C17ED9A2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647-1F19-4063-8CC8-1924E102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83C-10A7-4635-81FE-1A28D8D7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D2C-8C6E-478C-B237-E19C1EF6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AF7-4CF9-4848-9C2C-D622C414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DE5-2770-46AE-9EFA-1DBE0A47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250-C339-4A97-9B3E-AFFFFE83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712-299D-461C-99B3-794BA1A2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21A-0FF6-4760-AAB0-B816076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A69-80F8-41AD-9F3C-4730054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BC1-D8B1-4CF0-90A6-DD4028A8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6A44-A909-499B-8506-1A6BA95CF941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3280" cy="7761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ÊN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1400"/>
            </a:b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por quem a faz e por quem a ensina </a:t>
            </a:r>
            <a:br>
              <a:rPr sz="1400"/>
            </a:b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7 de Setembro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aixaDeTexto 10"/>
          <p:cNvSpPr/>
          <p:nvPr/>
        </p:nvSpPr>
        <p:spPr>
          <a:xfrm>
            <a:off x="4643280" y="0"/>
            <a:ext cx="4500720" cy="767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ÊN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por quem a faz e por quem a ens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7 de Setembr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onexão recta 6"/>
          <p:cNvSpPr/>
          <p:nvPr/>
        </p:nvSpPr>
        <p:spPr>
          <a:xfrm>
            <a:off x="4643280" y="3888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onexão recta 8"/>
          <p:cNvSpPr/>
          <p:nvPr/>
        </p:nvSpPr>
        <p:spPr>
          <a:xfrm>
            <a:off x="4500720" y="0"/>
            <a:ext cx="7128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0"/>
          <p:cNvSpPr/>
          <p:nvPr/>
        </p:nvSpPr>
        <p:spPr>
          <a:xfrm>
            <a:off x="1908000" y="638172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Isabel Pinto e Paula Fr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6551640" y="652140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Isabel Pinto e Paula Fr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8360" y="692280"/>
          <a:ext cx="3600360" cy="64764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pt-PT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OLIURET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Picture 2" descr=""/>
          <p:cNvPicPr/>
          <p:nvPr/>
        </p:nvPicPr>
        <p:blipFill>
          <a:blip r:embed="rId1"/>
          <a:srcRect l="32399" t="0" r="6099" b="0"/>
          <a:stretch/>
        </p:blipFill>
        <p:spPr>
          <a:xfrm>
            <a:off x="1692360" y="4869000"/>
            <a:ext cx="2592360" cy="1395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250920" y="2637000"/>
            <a:ext cx="4422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560" rIns="349560" tIns="174960" bIns="174960" anchor="ctr">
            <a:noAutofit/>
          </a:bodyPr>
          <a:p>
            <a:pPr algn="ctr"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Esquema de síntese de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poliuret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m 36" descr="SURF.jpg"/>
          <p:cNvPicPr/>
          <p:nvPr/>
        </p:nvPicPr>
        <p:blipFill>
          <a:blip r:embed="rId2"/>
          <a:stretch/>
        </p:blipFill>
        <p:spPr>
          <a:xfrm>
            <a:off x="147600" y="4653000"/>
            <a:ext cx="135900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PU_synthesis2"/>
          <p:cNvPicPr/>
          <p:nvPr/>
        </p:nvPicPr>
        <p:blipFill>
          <a:blip r:embed="rId3"/>
          <a:stretch/>
        </p:blipFill>
        <p:spPr>
          <a:xfrm>
            <a:off x="1908000" y="3429000"/>
            <a:ext cx="2519640" cy="1270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8"/>
          <p:cNvSpPr/>
          <p:nvPr/>
        </p:nvSpPr>
        <p:spPr>
          <a:xfrm>
            <a:off x="1908000" y="1268280"/>
            <a:ext cx="26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duto sólido, com textura de espuma, e aparência entre a cortiça e o poliestireno expandido ("isopor").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poliuretano"/>
          <p:cNvPicPr/>
          <p:nvPr/>
        </p:nvPicPr>
        <p:blipFill>
          <a:blip r:embed="rId4"/>
          <a:stretch/>
        </p:blipFill>
        <p:spPr>
          <a:xfrm>
            <a:off x="179280" y="1341360"/>
            <a:ext cx="1692360" cy="1060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0"/>
          <p:cNvSpPr/>
          <p:nvPr/>
        </p:nvSpPr>
        <p:spPr>
          <a:xfrm>
            <a:off x="0" y="3573360"/>
            <a:ext cx="208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reacção química, quase instantânea, entre  um activador da reacção (MDI) e um POLI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716360" y="1197000"/>
            <a:ext cx="4140360" cy="122400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1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no Solar</a:t>
            </a:r>
            <a:endParaRPr b="0" lang="en-US" sz="101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6" name="Picture 13" descr="DSC00104"/>
          <p:cNvPicPr/>
          <p:nvPr/>
        </p:nvPicPr>
        <p:blipFill>
          <a:blip r:embed="rId5"/>
          <a:srcRect l="26687" t="1916" r="23766" b="58081"/>
          <a:stretch/>
        </p:blipFill>
        <p:spPr>
          <a:xfrm>
            <a:off x="6804000" y="1401840"/>
            <a:ext cx="1222560" cy="1315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43280" y="2781000"/>
            <a:ext cx="4321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1 – </a:t>
            </a:r>
            <a:r>
              <a:rPr b="1" i="1" lang="pt-PT" sz="1100" spc="-1" strike="noStrike" u="sng">
                <a:solidFill>
                  <a:srgbClr val="cc3300"/>
                </a:solidFill>
                <a:uFillTx/>
                <a:latin typeface="Calibri"/>
              </a:rPr>
              <a:t>Vantagens para o utilizador</a:t>
            </a: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buClr>
                <a:srgbClr val="cc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Equipamento barato, fácil de fazer, usar e transportar, económico, seguro e que preserva o meio ambient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buClr>
                <a:srgbClr val="cc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buClr>
                <a:srgbClr val="cc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Reduz o trabalho de cozinhar e lavar panelas pois a comida não queima, não seca, não col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- Comida mais saborosa e saudável pois cozinha lentamente e a temperaturas mais baixas, preservando os nutrientes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2 – </a:t>
            </a:r>
            <a:r>
              <a:rPr b="1" i="1" lang="pt-PT" sz="1100" spc="-1" strike="noStrike" u="sng">
                <a:solidFill>
                  <a:srgbClr val="cc3300"/>
                </a:solidFill>
                <a:uFillTx/>
                <a:latin typeface="Calibri"/>
              </a:rPr>
              <a:t>Vantagens para o meio ambiente</a:t>
            </a: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buClr>
                <a:srgbClr val="cc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Grande redução no uso de combustíveis fósseis como gás butano que polui a atmosfera e que vai esgotar-s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- Grande redução no uso de energia eléctric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0" lang="pt-PT" sz="1100" spc="-1" strike="noStrike">
                <a:solidFill>
                  <a:srgbClr val="cc3300"/>
                </a:solidFill>
                <a:latin typeface="Calibri"/>
              </a:rPr>
              <a:t>http://fornosolar.wordpress.com</a:t>
            </a:r>
            <a:r>
              <a:rPr b="0" lang="pt-PT" sz="1100" spc="-1" strike="noStrike">
                <a:solidFill>
                  <a:srgbClr val="ff3300"/>
                </a:solidFill>
                <a:latin typeface="Calibri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6" descr="DSC00131"/>
          <p:cNvPicPr/>
          <p:nvPr/>
        </p:nvPicPr>
        <p:blipFill>
          <a:blip r:embed="rId6"/>
          <a:srcRect l="0" t="31422" r="0" b="24919"/>
          <a:stretch/>
        </p:blipFill>
        <p:spPr>
          <a:xfrm>
            <a:off x="5292720" y="5516640"/>
            <a:ext cx="311616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13:23:59Z</dcterms:created>
  <dc:creator>Isabel</dc:creator>
  <dc:description/>
  <dc:language>en-US</dc:language>
  <cp:lastModifiedBy>Isabel</cp:lastModifiedBy>
  <dcterms:modified xsi:type="dcterms:W3CDTF">2011-07-26T17:29:11Z</dcterms:modified>
  <cp:revision>12</cp:revision>
  <dc:subject/>
  <dc:title>A CIÊNCIA  por quem a faz e por quem a ensina  7 de Setembro 2011</dc:title>
</cp:coreProperties>
</file>