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8EB-158C-4693-897F-636C2ECF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9A4-0C65-4A89-ABC0-81D87CDD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5B4-898D-4ADD-99A1-CEC146DB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C5C-F8FC-46B5-B0B7-43C3EA4D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EB1-B6B7-4BD6-9905-A4AC9FAB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EEA-CB37-46E2-9B01-C6E5FE86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9DA-BF02-45B2-B4D4-8FED8BF3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B1C-5A71-480D-B00B-4CB8F045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994-A284-46FA-BFB5-BA748CE7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A70-4D72-4BC2-B2BD-45584EF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96F-F136-4633-AA2A-D1B42DE8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E58-D2A1-4083-88E2-4A2A4F6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C1AC-B921-45B7-9A3D-924CBE1F7AE5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ecathlon.pt/PT/artengo-700-o-18283392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3280" cy="776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ÊN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1400"/>
            </a:b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por quem a faz e por quem a ensina </a:t>
            </a:r>
            <a:br>
              <a:rPr sz="1400"/>
            </a:b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7 de Setembro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aixaDeTexto 10"/>
          <p:cNvSpPr/>
          <p:nvPr/>
        </p:nvSpPr>
        <p:spPr>
          <a:xfrm>
            <a:off x="4643280" y="0"/>
            <a:ext cx="4500720" cy="767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ÊN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por quem a faz e por quem a ens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7 de Setembr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onexão recta 6"/>
          <p:cNvSpPr/>
          <p:nvPr/>
        </p:nvSpPr>
        <p:spPr>
          <a:xfrm>
            <a:off x="4643280" y="3888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exão recta 8"/>
          <p:cNvSpPr/>
          <p:nvPr/>
        </p:nvSpPr>
        <p:spPr>
          <a:xfrm>
            <a:off x="4500720" y="0"/>
            <a:ext cx="7128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1"/>
          <p:cNvSpPr txBox="1"/>
          <p:nvPr/>
        </p:nvSpPr>
        <p:spPr>
          <a:xfrm>
            <a:off x="250920" y="836640"/>
            <a:ext cx="4033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Vamos jogar raquet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6" name="WordArt 55"/>
          <p:cNvSpPr txBox="1"/>
          <p:nvPr/>
        </p:nvSpPr>
        <p:spPr>
          <a:xfrm>
            <a:off x="1619280" y="1341360"/>
            <a:ext cx="12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E a bola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7" name="Picture 57" descr="my-asset_118040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00" y="1200240"/>
            <a:ext cx="1474920" cy="21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bola%2Bsab%C3%A3o"/>
          <p:cNvPicPr/>
          <p:nvPr/>
        </p:nvPicPr>
        <p:blipFill>
          <a:blip r:embed="rId3"/>
          <a:stretch/>
        </p:blipFill>
        <p:spPr>
          <a:xfrm>
            <a:off x="3059280" y="1484280"/>
            <a:ext cx="1260360" cy="1054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3284640"/>
            <a:ext cx="2950920" cy="32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0,5 L de água morna;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•  2 colheres de sopa de detergente da loiça;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•  1 colher de sopa de glicerina;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• Usar só 24h depo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tângulo 21" descr=""/>
          <p:cNvPicPr/>
          <p:nvPr/>
        </p:nvPicPr>
        <p:blipFill>
          <a:blip r:embed="rId4"/>
          <a:stretch/>
        </p:blipFill>
        <p:spPr>
          <a:xfrm>
            <a:off x="1530360" y="2468520"/>
            <a:ext cx="1322280" cy="70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3" descr=""/>
          <p:cNvPicPr/>
          <p:nvPr/>
        </p:nvPicPr>
        <p:blipFill>
          <a:blip r:embed="rId5"/>
          <a:stretch/>
        </p:blipFill>
        <p:spPr>
          <a:xfrm>
            <a:off x="395280" y="4797360"/>
            <a:ext cx="1442880" cy="178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"/>
          <p:cNvPicPr/>
          <p:nvPr/>
        </p:nvPicPr>
        <p:blipFill>
          <a:blip r:embed="rId6"/>
          <a:srcRect l="57582" t="0" r="0" b="13617"/>
          <a:stretch/>
        </p:blipFill>
        <p:spPr>
          <a:xfrm>
            <a:off x="2556000" y="450864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0"/>
          <p:cNvSpPr/>
          <p:nvPr/>
        </p:nvSpPr>
        <p:spPr>
          <a:xfrm>
            <a:off x="1908000" y="63817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Isabel Pinto e Paula Fr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0"/>
          <p:cNvSpPr/>
          <p:nvPr/>
        </p:nvSpPr>
        <p:spPr>
          <a:xfrm>
            <a:off x="6551640" y="630864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Isabel Pinto e Paula Fr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4859280" y="907920"/>
            <a:ext cx="40766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Faz o teu próprio perfume</a:t>
            </a:r>
            <a:endParaRPr b="1" lang="en-US" sz="5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6732720" y="148428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lfazema</a:t>
            </a:r>
            <a:endParaRPr b="0" lang="en-US" sz="6700" spc="1" strike="noStrike">
              <a:ln w="12600">
                <a:solidFill>
                  <a:srgbClr val="3333cc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227640" y="2421000"/>
            <a:ext cx="2376720" cy="1800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Receita:</a:t>
            </a: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1ºMac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2ºExtrair com ál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3ºFil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imagens-de-alfazema"/>
          <p:cNvPicPr/>
          <p:nvPr/>
        </p:nvPicPr>
        <p:blipFill>
          <a:blip r:embed="rId7"/>
          <a:stretch/>
        </p:blipFill>
        <p:spPr>
          <a:xfrm>
            <a:off x="4859280" y="1341360"/>
            <a:ext cx="1090800" cy="302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alfazema"/>
          <p:cNvPicPr/>
          <p:nvPr/>
        </p:nvPicPr>
        <p:blipFill>
          <a:blip r:embed="rId8"/>
          <a:stretch/>
        </p:blipFill>
        <p:spPr>
          <a:xfrm>
            <a:off x="6804000" y="4437000"/>
            <a:ext cx="2117880" cy="183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alfazema-propriedades"/>
          <p:cNvPicPr/>
          <p:nvPr/>
        </p:nvPicPr>
        <p:blipFill>
          <a:blip r:embed="rId9"/>
          <a:srcRect l="0" t="0" r="0" b="317"/>
          <a:stretch/>
        </p:blipFill>
        <p:spPr>
          <a:xfrm>
            <a:off x="4643280" y="4292640"/>
            <a:ext cx="196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13:23:59Z</dcterms:created>
  <dc:creator>Isabel</dc:creator>
  <dc:description/>
  <dc:language>en-US</dc:language>
  <cp:lastModifiedBy>Isabel</cp:lastModifiedBy>
  <dcterms:modified xsi:type="dcterms:W3CDTF">2011-07-26T14:29:57Z</dcterms:modified>
  <cp:revision>6</cp:revision>
  <dc:subject/>
  <dc:title>A CIÊNCIA  por quem a faz e por quem a ensina  7 de Setembro 2011</dc:title>
</cp:coreProperties>
</file>